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FA4-A9A1-4367-B17C-E1C15C6E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969-6034-4AC1-992C-876F7B8D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42E-4BB1-44B9-BDD7-8D8D188B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514-73E2-4D01-9F68-FC0FB6D2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C78-F436-4BD1-AFDE-7FCA0256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A66-86EB-4AEB-9A08-1CB4EF3B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3EB-70EB-4590-AF86-2B92115E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AE9-35AB-4F4B-AF5B-B38FDD7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B9B-6C6C-4557-AA15-F9DA1A35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910-C714-498A-A6EE-9272D85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2AA-732A-4E7C-BE69-0121C44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E82-0BC7-485E-A4F3-BC0674C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005D-3F9F-4CF2-B085-F82D19B9B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8 Prúd vzácnej vody živo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úd vzácnej vody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z kríža pra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trest tam Božia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mňa zomrel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lotrovi na kríži 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pásy ist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ám tým cestu ukáz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mrti k 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mňa zomrel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á krv jeho nevin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moc hriech každý zmy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beť jeho zástup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 právo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mňa zomrel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8:54:49Z</dcterms:modified>
  <cp:revision>20</cp:revision>
  <dc:subject/>
  <dc:title>Je veľký náš Pán, on slávy je Kráľ Nech do všetkých strán  spev vrúcnych znie chvál.</dc:title>
</cp:coreProperties>
</file>